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90560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3252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6088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744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80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85264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32520" y="285264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60880" y="285264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9240" y="285264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5800" y="285264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05600" y="476100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32520" y="476100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0880" y="476100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9240" y="476100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5800" y="476100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905600" y="479736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32520" y="479736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60880" y="479736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7440" y="479736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5800" y="479736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05600" y="284328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32520" y="284328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60880" y="284328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7440" y="284328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800" y="284328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0560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408" y="1724"/>
                </a:moveTo>
                <a:lnTo>
                  <a:pt x="544" y="2586"/>
                </a:lnTo>
                <a:lnTo>
                  <a:pt x="1383" y="2404"/>
                </a:lnTo>
                <a:lnTo>
                  <a:pt x="2222" y="2586"/>
                </a:lnTo>
                <a:lnTo>
                  <a:pt x="2358" y="1724"/>
                </a:lnTo>
                <a:lnTo>
                  <a:pt x="2766" y="998"/>
                </a:lnTo>
                <a:lnTo>
                  <a:pt x="2041" y="590"/>
                </a:lnTo>
                <a:lnTo>
                  <a:pt x="1383" y="0"/>
                </a:lnTo>
                <a:lnTo>
                  <a:pt x="703" y="590"/>
                </a:lnTo>
                <a:lnTo>
                  <a:pt x="0" y="998"/>
                </a:lnTo>
                <a:lnTo>
                  <a:pt x="408" y="172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4188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1679"/>
                </a:moveTo>
                <a:lnTo>
                  <a:pt x="544" y="2586"/>
                </a:lnTo>
                <a:lnTo>
                  <a:pt x="1383" y="2246"/>
                </a:lnTo>
                <a:lnTo>
                  <a:pt x="2222" y="2586"/>
                </a:lnTo>
                <a:lnTo>
                  <a:pt x="2199" y="1701"/>
                </a:lnTo>
                <a:lnTo>
                  <a:pt x="2766" y="998"/>
                </a:lnTo>
                <a:lnTo>
                  <a:pt x="1950" y="726"/>
                </a:lnTo>
                <a:lnTo>
                  <a:pt x="1383" y="0"/>
                </a:lnTo>
                <a:lnTo>
                  <a:pt x="793" y="726"/>
                </a:lnTo>
                <a:lnTo>
                  <a:pt x="0" y="998"/>
                </a:lnTo>
                <a:lnTo>
                  <a:pt x="544" y="16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7816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544" y="2586"/>
                </a:moveTo>
                <a:lnTo>
                  <a:pt x="1383" y="2087"/>
                </a:lnTo>
                <a:lnTo>
                  <a:pt x="2222" y="2586"/>
                </a:lnTo>
                <a:lnTo>
                  <a:pt x="2063" y="1633"/>
                </a:lnTo>
                <a:lnTo>
                  <a:pt x="2766" y="998"/>
                </a:lnTo>
                <a:lnTo>
                  <a:pt x="1837" y="839"/>
                </a:lnTo>
                <a:lnTo>
                  <a:pt x="1383" y="0"/>
                </a:lnTo>
                <a:lnTo>
                  <a:pt x="907" y="839"/>
                </a:lnTo>
                <a:lnTo>
                  <a:pt x="0" y="998"/>
                </a:lnTo>
                <a:lnTo>
                  <a:pt x="725" y="1633"/>
                </a:lnTo>
                <a:lnTo>
                  <a:pt x="544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444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2222" y="2586"/>
                </a:moveTo>
                <a:lnTo>
                  <a:pt x="1905" y="1588"/>
                </a:lnTo>
                <a:lnTo>
                  <a:pt x="2766" y="998"/>
                </a:lnTo>
                <a:lnTo>
                  <a:pt x="1723" y="953"/>
                </a:lnTo>
                <a:lnTo>
                  <a:pt x="1383" y="0"/>
                </a:lnTo>
                <a:lnTo>
                  <a:pt x="997" y="953"/>
                </a:lnTo>
                <a:lnTo>
                  <a:pt x="0" y="998"/>
                </a:lnTo>
                <a:lnTo>
                  <a:pt x="861" y="1565"/>
                </a:lnTo>
                <a:lnTo>
                  <a:pt x="544" y="2586"/>
                </a:lnTo>
                <a:lnTo>
                  <a:pt x="1383" y="1928"/>
                </a:lnTo>
                <a:lnTo>
                  <a:pt x="2222" y="258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2520" y="907920"/>
            <a:ext cx="1549440" cy="1449360"/>
          </a:xfrm>
          <a:custGeom>
            <a:avLst/>
            <a:gdLst/>
            <a:ahLst/>
            <a:rect l="l" t="t" r="r" b="b"/>
            <a:pathLst>
              <a:path w="2766" h="2586">
                <a:moveTo>
                  <a:pt x="0" y="998"/>
                </a:moveTo>
                <a:lnTo>
                  <a:pt x="1111" y="1089"/>
                </a:lnTo>
                <a:lnTo>
                  <a:pt x="1383" y="0"/>
                </a:lnTo>
                <a:lnTo>
                  <a:pt x="1632" y="1089"/>
                </a:lnTo>
                <a:lnTo>
                  <a:pt x="2766" y="998"/>
                </a:lnTo>
                <a:lnTo>
                  <a:pt x="1746" y="1520"/>
                </a:lnTo>
                <a:lnTo>
                  <a:pt x="2222" y="2586"/>
                </a:lnTo>
                <a:lnTo>
                  <a:pt x="1383" y="1769"/>
                </a:lnTo>
                <a:lnTo>
                  <a:pt x="544" y="2586"/>
                </a:lnTo>
                <a:lnTo>
                  <a:pt x="1020" y="1497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15800" y="907920"/>
            <a:ext cx="1548000" cy="1447560"/>
            <a:chOff x="415800" y="907920"/>
            <a:chExt cx="1548000" cy="1447560"/>
          </a:xfrm>
        </p:grpSpPr>
        <p:sp>
          <p:nvSpPr>
            <p:cNvPr id="85" name=""/>
            <p:cNvSpPr/>
            <p:nvPr/>
          </p:nvSpPr>
          <p:spPr>
            <a:xfrm>
              <a:off x="7200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385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898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9800" y="907920"/>
              <a:ext cx="139320" cy="774720"/>
            </a:xfrm>
            <a:custGeom>
              <a:avLst/>
              <a:gdLst/>
              <a:ahLst/>
              <a:rect l="l" t="t" r="r" b="b"/>
              <a:pathLst>
                <a:path w="249" h="1384">
                  <a:moveTo>
                    <a:pt x="249" y="1089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249" y="10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98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363" y="136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89800" y="1466640"/>
              <a:ext cx="774000" cy="292320"/>
            </a:xfrm>
            <a:custGeom>
              <a:avLst/>
              <a:gdLst/>
              <a:ahLst/>
              <a:rect l="l" t="t" r="r" b="b"/>
              <a:pathLst>
                <a:path w="1383" h="522">
                  <a:moveTo>
                    <a:pt x="363" y="522"/>
                  </a:moveTo>
                  <a:lnTo>
                    <a:pt x="0" y="386"/>
                  </a:lnTo>
                  <a:lnTo>
                    <a:pt x="1383" y="0"/>
                  </a:lnTo>
                  <a:lnTo>
                    <a:pt x="363" y="52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9800" y="146664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0" y="386"/>
                  </a:moveTo>
                  <a:lnTo>
                    <a:pt x="249" y="91"/>
                  </a:lnTo>
                  <a:lnTo>
                    <a:pt x="1383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5800" y="1466640"/>
              <a:ext cx="774000" cy="279360"/>
            </a:xfrm>
            <a:custGeom>
              <a:avLst/>
              <a:gdLst/>
              <a:ahLst/>
              <a:rect l="l" t="t" r="r" b="b"/>
              <a:pathLst>
                <a:path w="1383" h="499">
                  <a:moveTo>
                    <a:pt x="1383" y="386"/>
                  </a:moveTo>
                  <a:lnTo>
                    <a:pt x="0" y="0"/>
                  </a:lnTo>
                  <a:lnTo>
                    <a:pt x="1020" y="49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7520" y="907920"/>
              <a:ext cx="151920" cy="774720"/>
            </a:xfrm>
            <a:custGeom>
              <a:avLst/>
              <a:gdLst/>
              <a:ahLst/>
              <a:rect l="l" t="t" r="r" b="b"/>
              <a:pathLst>
                <a:path w="272" h="1384">
                  <a:moveTo>
                    <a:pt x="272" y="0"/>
                  </a:moveTo>
                  <a:lnTo>
                    <a:pt x="272" y="1384"/>
                  </a:lnTo>
                  <a:lnTo>
                    <a:pt x="0" y="108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0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476" y="113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5800" y="146664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1383" y="386"/>
                  </a:moveTo>
                  <a:lnTo>
                    <a:pt x="1111" y="91"/>
                  </a:lnTo>
                  <a:lnTo>
                    <a:pt x="0" y="0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87440" y="907920"/>
            <a:ext cx="1548000" cy="1447560"/>
            <a:chOff x="2287440" y="907920"/>
            <a:chExt cx="1548000" cy="1447560"/>
          </a:xfrm>
        </p:grpSpPr>
        <p:sp>
          <p:nvSpPr>
            <p:cNvPr id="96" name=""/>
            <p:cNvSpPr/>
            <p:nvPr/>
          </p:nvSpPr>
          <p:spPr>
            <a:xfrm>
              <a:off x="259164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164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6144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06144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1440" y="146664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61440" y="144144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287440" y="146664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287440" y="144144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1440" y="90792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58040" y="90792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160520" y="907920"/>
            <a:ext cx="1548000" cy="1447560"/>
            <a:chOff x="4160520" y="907920"/>
            <a:chExt cx="1548000" cy="1447560"/>
          </a:xfrm>
        </p:grpSpPr>
        <p:sp>
          <p:nvSpPr>
            <p:cNvPr id="107" name=""/>
            <p:cNvSpPr/>
            <p:nvPr/>
          </p:nvSpPr>
          <p:spPr>
            <a:xfrm>
              <a:off x="493452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4520" y="90792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4520" y="1377360"/>
              <a:ext cx="77400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34520" y="1466640"/>
              <a:ext cx="77400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452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464360" y="168264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679640" y="90792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60160" y="1377360"/>
              <a:ext cx="77364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160160" y="1466640"/>
              <a:ext cx="77364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464360" y="168264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032520" y="907920"/>
            <a:ext cx="1547640" cy="1447560"/>
            <a:chOff x="6032520" y="907920"/>
            <a:chExt cx="1547640" cy="1447560"/>
          </a:xfrm>
        </p:grpSpPr>
        <p:sp>
          <p:nvSpPr>
            <p:cNvPr id="118" name=""/>
            <p:cNvSpPr/>
            <p:nvPr/>
          </p:nvSpPr>
          <p:spPr>
            <a:xfrm>
              <a:off x="6806520" y="168264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6520" y="168264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6520" y="1466640"/>
              <a:ext cx="77364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520" y="1314360"/>
              <a:ext cx="77364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06520" y="90792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3672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3672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32520" y="1466640"/>
              <a:ext cx="77400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032520" y="1314360"/>
              <a:ext cx="77400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488280" y="90792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05600" y="907920"/>
            <a:ext cx="1548000" cy="1447560"/>
            <a:chOff x="7905600" y="907920"/>
            <a:chExt cx="1548000" cy="1447560"/>
          </a:xfrm>
        </p:grpSpPr>
        <p:sp>
          <p:nvSpPr>
            <p:cNvPr id="129" name=""/>
            <p:cNvSpPr/>
            <p:nvPr/>
          </p:nvSpPr>
          <p:spPr>
            <a:xfrm>
              <a:off x="8133840" y="1682640"/>
              <a:ext cx="54540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098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99080" y="90792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05600" y="123804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05600" y="146664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679600" y="1682640"/>
              <a:ext cx="54576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679600" y="168264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678880" y="90792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679600" y="123804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679600" y="146664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5800" y="2852640"/>
            <a:ext cx="1548000" cy="1447560"/>
            <a:chOff x="415800" y="2852640"/>
            <a:chExt cx="1548000" cy="1447560"/>
          </a:xfrm>
        </p:grpSpPr>
        <p:sp>
          <p:nvSpPr>
            <p:cNvPr id="140" name=""/>
            <p:cNvSpPr/>
            <p:nvPr/>
          </p:nvSpPr>
          <p:spPr>
            <a:xfrm>
              <a:off x="7200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385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98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89800" y="2852640"/>
              <a:ext cx="139320" cy="774720"/>
            </a:xfrm>
            <a:custGeom>
              <a:avLst/>
              <a:gdLst/>
              <a:ahLst/>
              <a:rect l="l" t="t" r="r" b="b"/>
              <a:pathLst>
                <a:path w="249" h="1384">
                  <a:moveTo>
                    <a:pt x="249" y="1089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249" y="1089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98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363" y="136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9800" y="3411360"/>
              <a:ext cx="774000" cy="292320"/>
            </a:xfrm>
            <a:custGeom>
              <a:avLst/>
              <a:gdLst/>
              <a:ahLst/>
              <a:rect l="l" t="t" r="r" b="b"/>
              <a:pathLst>
                <a:path w="1383" h="522">
                  <a:moveTo>
                    <a:pt x="363" y="522"/>
                  </a:moveTo>
                  <a:lnTo>
                    <a:pt x="0" y="386"/>
                  </a:lnTo>
                  <a:lnTo>
                    <a:pt x="1383" y="0"/>
                  </a:lnTo>
                  <a:lnTo>
                    <a:pt x="363" y="52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9800" y="341136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0" y="386"/>
                  </a:moveTo>
                  <a:lnTo>
                    <a:pt x="249" y="91"/>
                  </a:lnTo>
                  <a:lnTo>
                    <a:pt x="1383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800" y="3411360"/>
              <a:ext cx="774000" cy="279360"/>
            </a:xfrm>
            <a:custGeom>
              <a:avLst/>
              <a:gdLst/>
              <a:ahLst/>
              <a:rect l="l" t="t" r="r" b="b"/>
              <a:pathLst>
                <a:path w="1383" h="499">
                  <a:moveTo>
                    <a:pt x="1383" y="386"/>
                  </a:moveTo>
                  <a:lnTo>
                    <a:pt x="0" y="0"/>
                  </a:lnTo>
                  <a:lnTo>
                    <a:pt x="1020" y="49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7520" y="2852640"/>
              <a:ext cx="151920" cy="774720"/>
            </a:xfrm>
            <a:custGeom>
              <a:avLst/>
              <a:gdLst/>
              <a:ahLst/>
              <a:rect l="l" t="t" r="r" b="b"/>
              <a:pathLst>
                <a:path w="272" h="1384">
                  <a:moveTo>
                    <a:pt x="272" y="0"/>
                  </a:moveTo>
                  <a:lnTo>
                    <a:pt x="272" y="1384"/>
                  </a:lnTo>
                  <a:lnTo>
                    <a:pt x="0" y="108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0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476" y="113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5800" y="341136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1383" y="386"/>
                  </a:moveTo>
                  <a:lnTo>
                    <a:pt x="1111" y="91"/>
                  </a:lnTo>
                  <a:lnTo>
                    <a:pt x="0" y="0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7440" y="2852640"/>
            <a:ext cx="1548000" cy="1447560"/>
            <a:chOff x="2287440" y="2852640"/>
            <a:chExt cx="1548000" cy="1447560"/>
          </a:xfrm>
        </p:grpSpPr>
        <p:sp>
          <p:nvSpPr>
            <p:cNvPr id="151" name=""/>
            <p:cNvSpPr/>
            <p:nvPr/>
          </p:nvSpPr>
          <p:spPr>
            <a:xfrm>
              <a:off x="259164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164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6144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06144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1440" y="341136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61440" y="338616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7440" y="341136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7440" y="338616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61440" y="285264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858040" y="285264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160520" y="2852640"/>
            <a:ext cx="1548000" cy="1447560"/>
            <a:chOff x="4160520" y="2852640"/>
            <a:chExt cx="1548000" cy="1447560"/>
          </a:xfrm>
        </p:grpSpPr>
        <p:sp>
          <p:nvSpPr>
            <p:cNvPr id="162" name=""/>
            <p:cNvSpPr/>
            <p:nvPr/>
          </p:nvSpPr>
          <p:spPr>
            <a:xfrm>
              <a:off x="493452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4520" y="285264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4520" y="3322080"/>
              <a:ext cx="77400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4520" y="3411360"/>
              <a:ext cx="77400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452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64360" y="362736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679640" y="285264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160160" y="3322080"/>
              <a:ext cx="77364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160160" y="3411360"/>
              <a:ext cx="77364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464360" y="362736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32520" y="2852640"/>
            <a:ext cx="1547640" cy="1447560"/>
            <a:chOff x="6032520" y="2852640"/>
            <a:chExt cx="1547640" cy="1447560"/>
          </a:xfrm>
        </p:grpSpPr>
        <p:sp>
          <p:nvSpPr>
            <p:cNvPr id="173" name=""/>
            <p:cNvSpPr/>
            <p:nvPr/>
          </p:nvSpPr>
          <p:spPr>
            <a:xfrm>
              <a:off x="6806520" y="362736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6520" y="362736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6520" y="3411360"/>
              <a:ext cx="77364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6520" y="3259080"/>
              <a:ext cx="77364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06520" y="285264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3672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33672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32520" y="3411360"/>
              <a:ext cx="77400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032520" y="3259080"/>
              <a:ext cx="77400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88280" y="285264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905600" y="2852640"/>
            <a:ext cx="1548000" cy="1447560"/>
            <a:chOff x="7905600" y="2852640"/>
            <a:chExt cx="1548000" cy="1447560"/>
          </a:xfrm>
        </p:grpSpPr>
        <p:sp>
          <p:nvSpPr>
            <p:cNvPr id="184" name=""/>
            <p:cNvSpPr/>
            <p:nvPr/>
          </p:nvSpPr>
          <p:spPr>
            <a:xfrm>
              <a:off x="8133840" y="3627360"/>
              <a:ext cx="54540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098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99080" y="285264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05600" y="318276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05600" y="341136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679600" y="3627360"/>
              <a:ext cx="54576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679600" y="362736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678880" y="285264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679600" y="318276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79600" y="341136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5800" y="4797360"/>
            <a:ext cx="1548000" cy="1447560"/>
            <a:chOff x="415800" y="4797360"/>
            <a:chExt cx="1548000" cy="1447560"/>
          </a:xfrm>
        </p:grpSpPr>
        <p:sp>
          <p:nvSpPr>
            <p:cNvPr id="195" name=""/>
            <p:cNvSpPr/>
            <p:nvPr/>
          </p:nvSpPr>
          <p:spPr>
            <a:xfrm>
              <a:off x="7200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385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98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9800" y="4797360"/>
              <a:ext cx="139320" cy="774720"/>
            </a:xfrm>
            <a:custGeom>
              <a:avLst/>
              <a:gdLst/>
              <a:ahLst/>
              <a:rect l="l" t="t" r="r" b="b"/>
              <a:pathLst>
                <a:path w="249" h="1384">
                  <a:moveTo>
                    <a:pt x="249" y="1089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249" y="1089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898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363" y="136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9800" y="5356080"/>
              <a:ext cx="774000" cy="292320"/>
            </a:xfrm>
            <a:custGeom>
              <a:avLst/>
              <a:gdLst/>
              <a:ahLst/>
              <a:rect l="l" t="t" r="r" b="b"/>
              <a:pathLst>
                <a:path w="1383" h="522">
                  <a:moveTo>
                    <a:pt x="363" y="522"/>
                  </a:moveTo>
                  <a:lnTo>
                    <a:pt x="0" y="386"/>
                  </a:lnTo>
                  <a:lnTo>
                    <a:pt x="1383" y="0"/>
                  </a:lnTo>
                  <a:lnTo>
                    <a:pt x="363" y="52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9800" y="535608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0" y="386"/>
                  </a:moveTo>
                  <a:lnTo>
                    <a:pt x="249" y="91"/>
                  </a:lnTo>
                  <a:lnTo>
                    <a:pt x="1383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800" y="5356080"/>
              <a:ext cx="774000" cy="279360"/>
            </a:xfrm>
            <a:custGeom>
              <a:avLst/>
              <a:gdLst/>
              <a:ahLst/>
              <a:rect l="l" t="t" r="r" b="b"/>
              <a:pathLst>
                <a:path w="1383" h="499">
                  <a:moveTo>
                    <a:pt x="1383" y="386"/>
                  </a:moveTo>
                  <a:lnTo>
                    <a:pt x="0" y="0"/>
                  </a:lnTo>
                  <a:lnTo>
                    <a:pt x="1020" y="49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7520" y="4797360"/>
              <a:ext cx="151920" cy="774720"/>
            </a:xfrm>
            <a:custGeom>
              <a:avLst/>
              <a:gdLst/>
              <a:ahLst/>
              <a:rect l="l" t="t" r="r" b="b"/>
              <a:pathLst>
                <a:path w="272" h="1384">
                  <a:moveTo>
                    <a:pt x="272" y="0"/>
                  </a:moveTo>
                  <a:lnTo>
                    <a:pt x="272" y="1384"/>
                  </a:lnTo>
                  <a:lnTo>
                    <a:pt x="0" y="108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0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476" y="113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800" y="5356080"/>
              <a:ext cx="774000" cy="216000"/>
            </a:xfrm>
            <a:custGeom>
              <a:avLst/>
              <a:gdLst/>
              <a:ahLst/>
              <a:rect l="l" t="t" r="r" b="b"/>
              <a:pathLst>
                <a:path w="1383" h="386">
                  <a:moveTo>
                    <a:pt x="1383" y="386"/>
                  </a:moveTo>
                  <a:lnTo>
                    <a:pt x="1111" y="91"/>
                  </a:lnTo>
                  <a:lnTo>
                    <a:pt x="0" y="0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7440" y="4797360"/>
            <a:ext cx="1548000" cy="1447560"/>
            <a:chOff x="2287440" y="4797360"/>
            <a:chExt cx="1548000" cy="1447560"/>
          </a:xfrm>
        </p:grpSpPr>
        <p:sp>
          <p:nvSpPr>
            <p:cNvPr id="206" name=""/>
            <p:cNvSpPr/>
            <p:nvPr/>
          </p:nvSpPr>
          <p:spPr>
            <a:xfrm>
              <a:off x="259164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164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06144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0"/>
                  </a:lnTo>
                  <a:lnTo>
                    <a:pt x="839" y="544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6144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0"/>
                  </a:moveTo>
                  <a:lnTo>
                    <a:pt x="317" y="181"/>
                  </a:lnTo>
                  <a:lnTo>
                    <a:pt x="0" y="1202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1440" y="535608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1440" y="533088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287440" y="5356080"/>
              <a:ext cx="774000" cy="317160"/>
            </a:xfrm>
            <a:custGeom>
              <a:avLst/>
              <a:gdLst/>
              <a:ahLst/>
              <a:rect l="l" t="t" r="r" b="b"/>
              <a:pathLst>
                <a:path w="1383" h="567">
                  <a:moveTo>
                    <a:pt x="0" y="386"/>
                  </a:moveTo>
                  <a:lnTo>
                    <a:pt x="1383" y="0"/>
                  </a:lnTo>
                  <a:lnTo>
                    <a:pt x="522" y="567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7440" y="5330880"/>
              <a:ext cx="774000" cy="241200"/>
            </a:xfrm>
            <a:custGeom>
              <a:avLst/>
              <a:gdLst/>
              <a:ahLst/>
              <a:rect l="l" t="t" r="r" b="b"/>
              <a:pathLst>
                <a:path w="1383" h="431">
                  <a:moveTo>
                    <a:pt x="1383" y="45"/>
                  </a:moveTo>
                  <a:lnTo>
                    <a:pt x="0" y="431"/>
                  </a:lnTo>
                  <a:lnTo>
                    <a:pt x="363" y="0"/>
                  </a:lnTo>
                  <a:lnTo>
                    <a:pt x="1383" y="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1440" y="479736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858040" y="4797360"/>
              <a:ext cx="203040" cy="774720"/>
            </a:xfrm>
            <a:custGeom>
              <a:avLst/>
              <a:gdLst/>
              <a:ahLst/>
              <a:rect l="l" t="t" r="r" b="b"/>
              <a:pathLst>
                <a:path w="363" h="1384">
                  <a:moveTo>
                    <a:pt x="363" y="953"/>
                  </a:moveTo>
                  <a:lnTo>
                    <a:pt x="0" y="1384"/>
                  </a:lnTo>
                  <a:lnTo>
                    <a:pt x="0" y="0"/>
                  </a:lnTo>
                  <a:lnTo>
                    <a:pt x="363" y="953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160520" y="4797360"/>
            <a:ext cx="1548000" cy="1447560"/>
            <a:chOff x="4160520" y="4797360"/>
            <a:chExt cx="1548000" cy="1447560"/>
          </a:xfrm>
        </p:grpSpPr>
        <p:sp>
          <p:nvSpPr>
            <p:cNvPr id="217" name=""/>
            <p:cNvSpPr/>
            <p:nvPr/>
          </p:nvSpPr>
          <p:spPr>
            <a:xfrm>
              <a:off x="493452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34520" y="479736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34520" y="5266800"/>
              <a:ext cx="77400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34520" y="5356080"/>
              <a:ext cx="77400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452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64360" y="557208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839" y="1202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679640" y="4797360"/>
              <a:ext cx="253800" cy="774720"/>
            </a:xfrm>
            <a:custGeom>
              <a:avLst/>
              <a:gdLst/>
              <a:ahLst/>
              <a:rect l="l" t="t" r="r" b="b"/>
              <a:pathLst>
                <a:path w="454" h="1384">
                  <a:moveTo>
                    <a:pt x="0" y="1384"/>
                  </a:moveTo>
                  <a:lnTo>
                    <a:pt x="0" y="0"/>
                  </a:lnTo>
                  <a:lnTo>
                    <a:pt x="454" y="839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160160" y="5266800"/>
              <a:ext cx="773640" cy="305280"/>
            </a:xfrm>
            <a:custGeom>
              <a:avLst/>
              <a:gdLst/>
              <a:ahLst/>
              <a:rect l="l" t="t" r="r" b="b"/>
              <a:pathLst>
                <a:path w="1383" h="545">
                  <a:moveTo>
                    <a:pt x="0" y="545"/>
                  </a:moveTo>
                  <a:lnTo>
                    <a:pt x="1383" y="159"/>
                  </a:lnTo>
                  <a:lnTo>
                    <a:pt x="454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160160" y="5356080"/>
              <a:ext cx="773640" cy="355320"/>
            </a:xfrm>
            <a:custGeom>
              <a:avLst/>
              <a:gdLst/>
              <a:ahLst/>
              <a:rect l="l" t="t" r="r" b="b"/>
              <a:pathLst>
                <a:path w="1383" h="635">
                  <a:moveTo>
                    <a:pt x="0" y="386"/>
                  </a:moveTo>
                  <a:lnTo>
                    <a:pt x="1383" y="0"/>
                  </a:lnTo>
                  <a:lnTo>
                    <a:pt x="680" y="63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464360" y="557208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0"/>
                  </a:moveTo>
                  <a:lnTo>
                    <a:pt x="680" y="249"/>
                  </a:lnTo>
                  <a:lnTo>
                    <a:pt x="839" y="1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2520" y="4797360"/>
            <a:ext cx="1547640" cy="1447560"/>
            <a:chOff x="6032520" y="4797360"/>
            <a:chExt cx="1547640" cy="1447560"/>
          </a:xfrm>
        </p:grpSpPr>
        <p:sp>
          <p:nvSpPr>
            <p:cNvPr id="228" name=""/>
            <p:cNvSpPr/>
            <p:nvPr/>
          </p:nvSpPr>
          <p:spPr>
            <a:xfrm>
              <a:off x="6806520" y="557208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06520" y="5572080"/>
              <a:ext cx="46908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6520" y="5356080"/>
              <a:ext cx="77364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6520" y="5203800"/>
              <a:ext cx="77364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06520" y="479736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3672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862"/>
                  </a:moveTo>
                  <a:lnTo>
                    <a:pt x="0" y="0"/>
                  </a:lnTo>
                  <a:lnTo>
                    <a:pt x="839" y="1202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33672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839" y="1202"/>
                  </a:moveTo>
                  <a:lnTo>
                    <a:pt x="816" y="295"/>
                  </a:lnTo>
                  <a:lnTo>
                    <a:pt x="0" y="0"/>
                  </a:lnTo>
                  <a:lnTo>
                    <a:pt x="839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032520" y="5356080"/>
              <a:ext cx="774000" cy="381240"/>
            </a:xfrm>
            <a:custGeom>
              <a:avLst/>
              <a:gdLst/>
              <a:ahLst/>
              <a:rect l="l" t="t" r="r" b="b"/>
              <a:pathLst>
                <a:path w="1383" h="681">
                  <a:moveTo>
                    <a:pt x="0" y="386"/>
                  </a:moveTo>
                  <a:lnTo>
                    <a:pt x="1383" y="0"/>
                  </a:lnTo>
                  <a:lnTo>
                    <a:pt x="816" y="68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032520" y="5203800"/>
              <a:ext cx="774000" cy="368280"/>
            </a:xfrm>
            <a:custGeom>
              <a:avLst/>
              <a:gdLst/>
              <a:ahLst/>
              <a:rect l="l" t="t" r="r" b="b"/>
              <a:pathLst>
                <a:path w="1383" h="658">
                  <a:moveTo>
                    <a:pt x="0" y="658"/>
                  </a:moveTo>
                  <a:lnTo>
                    <a:pt x="1383" y="272"/>
                  </a:lnTo>
                  <a:lnTo>
                    <a:pt x="567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88280" y="4797360"/>
              <a:ext cx="317160" cy="774720"/>
            </a:xfrm>
            <a:custGeom>
              <a:avLst/>
              <a:gdLst/>
              <a:ahLst/>
              <a:rect l="l" t="t" r="r" b="b"/>
              <a:pathLst>
                <a:path w="567" h="1384">
                  <a:moveTo>
                    <a:pt x="0" y="1384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05600" y="4797360"/>
            <a:ext cx="1548000" cy="1447560"/>
            <a:chOff x="7905600" y="4797360"/>
            <a:chExt cx="1548000" cy="1447560"/>
          </a:xfrm>
        </p:grpSpPr>
        <p:sp>
          <p:nvSpPr>
            <p:cNvPr id="239" name=""/>
            <p:cNvSpPr/>
            <p:nvPr/>
          </p:nvSpPr>
          <p:spPr>
            <a:xfrm>
              <a:off x="8133840" y="5572080"/>
              <a:ext cx="54540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098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99080" y="479736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05600" y="512748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05600" y="535608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679600" y="5572080"/>
              <a:ext cx="545760" cy="672840"/>
            </a:xfrm>
            <a:custGeom>
              <a:avLst/>
              <a:gdLst/>
              <a:ahLst/>
              <a:rect l="l" t="t" r="r" b="b"/>
              <a:pathLst>
                <a:path w="975" h="1202">
                  <a:moveTo>
                    <a:pt x="136" y="1202"/>
                  </a:moveTo>
                  <a:lnTo>
                    <a:pt x="975" y="0"/>
                  </a:lnTo>
                  <a:lnTo>
                    <a:pt x="0" y="363"/>
                  </a:lnTo>
                  <a:lnTo>
                    <a:pt x="136" y="1202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679600" y="5572080"/>
              <a:ext cx="469440" cy="672840"/>
            </a:xfrm>
            <a:custGeom>
              <a:avLst/>
              <a:gdLst/>
              <a:ahLst/>
              <a:rect l="l" t="t" r="r" b="b"/>
              <a:pathLst>
                <a:path w="839" h="1202">
                  <a:moveTo>
                    <a:pt x="0" y="1202"/>
                  </a:moveTo>
                  <a:lnTo>
                    <a:pt x="839" y="1020"/>
                  </a:lnTo>
                  <a:lnTo>
                    <a:pt x="839" y="0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ff66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678880" y="4797360"/>
              <a:ext cx="380520" cy="774720"/>
            </a:xfrm>
            <a:custGeom>
              <a:avLst/>
              <a:gdLst/>
              <a:ahLst/>
              <a:rect l="l" t="t" r="r" b="b"/>
              <a:pathLst>
                <a:path w="680" h="1384">
                  <a:moveTo>
                    <a:pt x="680" y="1384"/>
                  </a:moveTo>
                  <a:lnTo>
                    <a:pt x="680" y="0"/>
                  </a:lnTo>
                  <a:lnTo>
                    <a:pt x="0" y="590"/>
                  </a:lnTo>
                  <a:lnTo>
                    <a:pt x="680" y="138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679600" y="5127480"/>
              <a:ext cx="774000" cy="444600"/>
            </a:xfrm>
            <a:custGeom>
              <a:avLst/>
              <a:gdLst/>
              <a:ahLst/>
              <a:rect l="l" t="t" r="r" b="b"/>
              <a:pathLst>
                <a:path w="1383" h="794">
                  <a:moveTo>
                    <a:pt x="1383" y="794"/>
                  </a:moveTo>
                  <a:lnTo>
                    <a:pt x="0" y="408"/>
                  </a:lnTo>
                  <a:lnTo>
                    <a:pt x="703" y="0"/>
                  </a:lnTo>
                  <a:lnTo>
                    <a:pt x="1383" y="794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8679600" y="5356080"/>
              <a:ext cx="774000" cy="419400"/>
            </a:xfrm>
            <a:custGeom>
              <a:avLst/>
              <a:gdLst/>
              <a:ahLst/>
              <a:rect l="l" t="t" r="r" b="b"/>
              <a:pathLst>
                <a:path w="1383" h="749">
                  <a:moveTo>
                    <a:pt x="1383" y="386"/>
                  </a:moveTo>
                  <a:lnTo>
                    <a:pt x="0" y="0"/>
                  </a:lnTo>
                  <a:lnTo>
                    <a:pt x="408" y="749"/>
                  </a:lnTo>
                  <a:lnTo>
                    <a:pt x="1383" y="386"/>
                  </a:lnTo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4-09T01:48:00Z</dcterms:modified>
  <cp:revision>1</cp:revision>
  <dc:subject>PPT227_星マーク</dc:subject>
  <dc:title>PPT227_星マーク</dc:title>
</cp:coreProperties>
</file>